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454-D7FF-4AF3-82E3-9BB99727BF2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h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4EF-1E88-4DCD-B10B-3E757D2F4F5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21E-D6BB-49C7-A554-E77A57E86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8600" y="609480"/>
            <a:ext cx="46753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erusalimschy, R., L. H. Figueiredo, et al. (1996). "Lua-an extensible extension language."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Software: Practice &amp; Experience </a:t>
            </a: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26(6): 635-6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189-E12B-4466-BF95-E356D3A6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031-B451-4755-A455-D149AA8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626-79C4-4DC1-97F9-1F036DFD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626-3846-4221-8154-9650491B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D73-E0D0-47E1-89C2-46C470E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01D-B34C-49B8-9D42-5B4EBCD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042-B9E2-497B-A457-73A3653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6A4-A711-44A5-93BB-949DA57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DCF-5286-4173-9ED0-04EEF12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447-3BBF-44DF-A232-E439018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E45-23A3-4F37-87CE-CDADB3CE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D75-1C87-45A6-BBE0-48C537AD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7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FA3-BE72-4222-8E2B-62DF817F454F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ua for TerraME: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 Short Introduction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dro Ribeiro de And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iago G. S. Carnei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ünster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216920" y="4508640"/>
            <a:ext cx="160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omm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1557000"/>
            <a:ext cx="853452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uble hyphen 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until the end of th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comments start with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[[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un until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"hello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pt-BR" sz="2400" spc="-1" strike="noStrike">
                <a:solidFill>
                  <a:srgbClr val="00b050"/>
                </a:solidFill>
                <a:latin typeface="Calibri"/>
              </a:rPr>
              <a:t>-- my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alibri"/>
              </a:rPr>
              <a:t>-- print("hell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--[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print(1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print(20) -- no action (com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b050"/>
                </a:solidFill>
                <a:latin typeface="Calibri"/>
              </a:rPr>
              <a:t>--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412640"/>
            <a:ext cx="853452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i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120" y="1125360"/>
            <a:ext cx="85345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that does no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"a string!!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int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9120" y="1125360"/>
            <a:ext cx="8534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evaluated as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verything else is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ero and the empty string are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000" spc="-1" strike="noStrike">
                <a:solidFill>
                  <a:srgbClr val="00b050"/>
                </a:solidFill>
                <a:latin typeface="Calibri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3" marL="1330200"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and)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(or)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866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r (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oolea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46" name="Picture 1" descr="Captura de Tela 2013-03-21 às 08.21.54.png"/>
          <p:cNvPicPr/>
          <p:nvPr/>
        </p:nvPicPr>
        <p:blipFill>
          <a:blip r:embed="rId1"/>
          <a:stretch/>
        </p:blipFill>
        <p:spPr>
          <a:xfrm>
            <a:off x="1332000" y="2835360"/>
            <a:ext cx="3263760" cy="20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aptura de Tela 2013-03-21 às 08.23.47.png"/>
          <p:cNvPicPr/>
          <p:nvPr/>
        </p:nvPicPr>
        <p:blipFill>
          <a:blip r:embed="rId2"/>
          <a:stretch/>
        </p:blipFill>
        <p:spPr>
          <a:xfrm>
            <a:off x="4819680" y="2820960"/>
            <a:ext cx="33526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number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1197000"/>
            <a:ext cx="853452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 only type for numeric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uble-precision floating-point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ithmetic operators: +, –, *, 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nent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^) and modulus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lean  operators (&lt;, &gt;, &lt;=, &gt;=, ~=, and ==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4.8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.2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4e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 ^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A %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a &gt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int(b ~= </a:t>
            </a:r>
            <a:r>
              <a:rPr b="0" lang="pt-BR" sz="1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arenthes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1267920"/>
            <a:ext cx="8028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tional (except in the case of function c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n doubt, use parenth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+-i &lt; b/2+1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+(-i)) &lt; ((b/2)+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+x^2*8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+((x^2)*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&lt; y and y &lt;= z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a &lt; y) and (y &lt;= 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^y^z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bfbfbf"/>
                </a:solidFill>
                <a:latin typeface="Calibri"/>
              </a:rPr>
              <a:t>&lt;--&gt;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(x^(y^z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r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120" y="1916280"/>
            <a:ext cx="8534520" cy="34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gle or double quo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perator 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hello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'hello'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x = "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.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pt-BR" sz="2400" spc="-1" strike="noStrike">
                <a:solidFill>
                  <a:srgbClr val="00b0f0"/>
                </a:solidFill>
                <a:latin typeface="Calibri"/>
              </a:rPr>
              <a:t>"x = 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or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o repeat other statements, with the following synta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r = exp1, exp2, exp3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loop will execute something for each value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using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p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 step to increment var. This third expression is optional (default is 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= 1, 1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print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= 1, 10, 2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print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f</a:t>
            </a: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statemen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120" y="1125000"/>
            <a:ext cx="85345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f statement tests condition and executes its then-part or its else-part (optional) according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b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0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0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gt;=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lt; b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&lt; b +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b &lt;= a &lt; b+5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a &gt; b+5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120" y="1523880"/>
            <a:ext cx="40388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structured 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implement ar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{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 = 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 + 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x[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00600" y="2421000"/>
            <a:ext cx="40384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-- Length of a 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#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-- Traversing a table 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– FIRS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#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i..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 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x[i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-- Traversing a table</a:t>
            </a:r>
            <a:r>
              <a:rPr b="0" lang="en-US" sz="1100" spc="-1" strike="noStrike">
                <a:solidFill>
                  <a:srgbClr val="00b050"/>
                </a:solidFill>
                <a:latin typeface="Calibri"/>
              </a:rPr>
              <a:t> – SECOND W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in pairs(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key: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k,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Value: 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v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erraME uses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Lua </a:t>
            </a: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rogramming language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	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551628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http://www.lua.org/manual/5.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http://www.lua.org/images/logo.gif"/>
          <p:cNvPicPr/>
          <p:nvPr/>
        </p:nvPicPr>
        <p:blipFill>
          <a:blip r:embed="rId1"/>
          <a:stretch/>
        </p:blipFill>
        <p:spPr>
          <a:xfrm>
            <a:off x="6227640" y="4653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6448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s can be indexed not only with numbers, but also with strings or any other value of the language, except n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ver =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oad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0.3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Urban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[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"cover"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cov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istRoad = loc.distRoad^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istTotal = loc.distRoad + loc.distUrb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distTo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.deforestationPot =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loc.dist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(loc.deforestationP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in tabl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120" y="1052640"/>
            <a:ext cx="853452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Defining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cover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 = {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Referencing elements of a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dist.ro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.dist.total = loc.dist.road + loc.dist.ur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dist.tot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Traversing a table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 – SECOND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 pairs(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(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key: 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k,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Value: 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v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120" y="1414080"/>
            <a:ext cx="8534520" cy="48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is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a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des snipp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an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carry out a specific tas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commonly called procedure) o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compute and return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is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first-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Lu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assigned to a variable  (even a t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passed as parameter to other fun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the returning value of other fun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print = p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= n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print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 = myp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tandard libraries within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120" y="1184040"/>
            <a:ext cx="85345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(print, type, tostring, tonumber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 (string.find, string.gsub, string.format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(table.insert, table.remove, table.sort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 (math.random, math.sin, math.exp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 (io.open, io.read, io.clos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 (os.clock, os.execut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bug (debug.getinfo, debug.getlocal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72       1.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math.pi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3.14159265358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=  math.sin(math.pi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+ math.cos(math.pi/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-- angle in radi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a)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-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os.time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string.find(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patter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t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– 3   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Lua math librar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st important math func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83358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efinition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523880"/>
            <a:ext cx="40388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-- Syntax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0060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-- Syntax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int(</a:t>
            </a:r>
            <a:r>
              <a:rPr b="0" lang="pt-BR" sz="2800" spc="-1" strike="noStrike">
                <a:solidFill>
                  <a:srgbClr val="7030a0"/>
                </a:solidFill>
                <a:latin typeface="Calibri"/>
              </a:rPr>
              <a:t>add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BR" sz="2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t-BR" sz="2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arameters of a fun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486080"/>
            <a:ext cx="85345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- “and” returns the second argument when the first not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il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 =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5 is discarded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High-order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120" y="1125360"/>
            <a:ext cx="85345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s can also be parameters to other functions. This kind of function is what we call a higher-order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ab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fu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osition, valu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irs(tab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fu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alue, pos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= {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x,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el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print(el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for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x,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unctio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value, pos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print(position, 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34136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le may have their own fun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Urban = 0.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orestPot = function(myl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pt-BR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/(myloc.distRoad + myloc.distUrb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int(loc.deforestPot(loc)) </a:t>
            </a:r>
            <a:r>
              <a:rPr b="0" lang="pt-BR" sz="2000" spc="-1" strike="noStrike">
                <a:solidFill>
                  <a:srgbClr val="00b050"/>
                </a:solidFill>
                <a:latin typeface="Calibri"/>
              </a:rPr>
              <a:t>-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int(loc:deforestPot())</a:t>
            </a:r>
            <a:r>
              <a:rPr b="0" lang="pt-BR" sz="2000" spc="-1" strike="noStrike">
                <a:solidFill>
                  <a:srgbClr val="00b050"/>
                </a:solidFill>
                <a:latin typeface="Calibri"/>
              </a:rPr>
              <a:t> -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ables with function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969840"/>
            <a:ext cx="853452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can declare a “class” in Lua by creating a function that takes a table constructor as arg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 MyLocation(locd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data.covertype =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"fores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data.deforPot = function(sel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(self.distRoad + self.distUrb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loc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MyLocation({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ist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 = MyLocation{distRoad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istUrban =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0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.covertyp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nt(loc:deforPot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at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120" y="1125360"/>
            <a:ext cx="853452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 another script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mple and flex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mple things simple, complex things possib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mall, Efficient, Port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le library written in ANSI C, compiles the same source code in all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arball for Lua 5.1.4 takes 860K uncompressed. The source contains around 17000 lines of C. Under Linux, the interpreter takes 153K and the library, 203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benchmarks show Lua as the fastest language in the realm of interpreted scripting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and distributed under MIT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me tips to organize your code – Make it look professional 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2967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nt your code for read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ent your code! You may need understand/explain it 1 year la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neaningfull names to vari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YES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ilWater ,  landCover         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NO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x1, x2, r3, 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oid magic numbers! Use UPPERCASE  constant names in head of your  code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3900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= 1 ,     SIMULATION_STEP = 1,      EMPTY_SEED_BANK = 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llow TerraME naming conven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866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erraME naming conven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aME adop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American Engl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eighb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eigh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s of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the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pper CamelC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, starting with a capital letter, followed by other words starting with capitalized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t,   Trajectory,   CellularSpace,   Social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ames have the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lower CamelC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, with names starting with lowercase letters followed by other words starting with capitalized let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, database, forEachCell, d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Few keywords &amp; Clean syntax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are reserved and cannot be used as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strings denote other toke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675560" cy="11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95160" y="4797360"/>
            <a:ext cx="56772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Rodapé 3"/>
          <p:cNvSpPr/>
          <p:nvPr/>
        </p:nvSpPr>
        <p:spPr>
          <a:xfrm>
            <a:off x="4608360" y="6323040"/>
            <a:ext cx="453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a and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ere is Lua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robras, the Brazilian Oi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atel (the main telecommunication company in Braz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other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 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a is used in hundreds of projects, both commercial and aca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Lua still in restricte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il recently all documentation was in Portugu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08000" y="2878200"/>
            <a:ext cx="7481880" cy="550800"/>
          </a:xfrm>
          <a:prstGeom prst="rect">
            <a:avLst/>
          </a:prstGeom>
          <a:solidFill>
            <a:srgbClr val="d0d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Arial"/>
              </a:rPr>
              <a:t>Lua is the language of choice for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:\LUALOGO.GIF"/>
          <p:cNvPicPr/>
          <p:nvPr/>
        </p:nvPicPr>
        <p:blipFill>
          <a:blip r:embed="rId2"/>
          <a:stretch/>
        </p:blipFill>
        <p:spPr>
          <a:xfrm>
            <a:off x="7696080" y="2428920"/>
            <a:ext cx="1357560" cy="138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Text Box 13"/>
          <p:cNvSpPr/>
          <p:nvPr/>
        </p:nvSpPr>
        <p:spPr>
          <a:xfrm>
            <a:off x="6643800" y="6546960"/>
            <a:ext cx="250020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[Ierusalimschy et al, 199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0" y="6519960"/>
            <a:ext cx="197964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the Lu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28" name="Content Placeholder 17" descr="Captura de Tela 2013-04-05 às 18.43.08.png"/>
          <p:cNvPicPr/>
          <p:nvPr/>
        </p:nvPicPr>
        <p:blipFill>
          <a:blip r:embed="rId1"/>
          <a:srcRect l="-18787" t="0" r="-18787" b="0"/>
          <a:stretch/>
        </p:blipFill>
        <p:spPr>
          <a:xfrm>
            <a:off x="-1747800" y="-34920"/>
            <a:ext cx="12701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30" name="Content Placeholder 3" descr="Captura de Tela 2013-04-05 às 18.44.24.png"/>
          <p:cNvPicPr/>
          <p:nvPr/>
        </p:nvPicPr>
        <p:blipFill>
          <a:blip r:embed="rId1"/>
          <a:srcRect l="-18490" t="0" r="-18490" b="0"/>
          <a:stretch/>
        </p:blipFill>
        <p:spPr>
          <a:xfrm>
            <a:off x="-1731960" y="-27000"/>
            <a:ext cx="1267452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4176720" y="3344760"/>
            <a:ext cx="647640" cy="289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579760" y="406440"/>
            <a:ext cx="539640" cy="239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419640" y="3741840"/>
            <a:ext cx="1152360" cy="2761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  <a:ea typeface="DejaVu Sans"/>
            </a:endParaRPr>
          </a:p>
        </p:txBody>
      </p:sp>
      <p:pic>
        <p:nvPicPr>
          <p:cNvPr id="135" name="Content Placeholder 6" descr="Captura de Tela 2013-04-05 às 18.51.11.png"/>
          <p:cNvPicPr/>
          <p:nvPr/>
        </p:nvPicPr>
        <p:blipFill>
          <a:blip r:embed="rId1"/>
          <a:srcRect l="-18734" t="0" r="-18734" b="0"/>
          <a:stretch/>
        </p:blipFill>
        <p:spPr>
          <a:xfrm>
            <a:off x="-1765440" y="4680"/>
            <a:ext cx="126748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Variables and Value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341360"/>
            <a:ext cx="853452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colon m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tionall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any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 = a*</a:t>
            </a:r>
            <a:r>
              <a:rPr b="0" lang="pt-BR" sz="24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8:59:46Z</dcterms:created>
  <dc:creator>Gilberto Camara</dc:creator>
  <dc:description/>
  <dc:language>en-US</dc:language>
  <cp:lastModifiedBy>tiago</cp:lastModifiedBy>
  <dcterms:modified xsi:type="dcterms:W3CDTF">2014-07-24T09:55:12Z</dcterms:modified>
  <cp:revision>427</cp:revision>
  <dc:subject/>
  <dc:title>Low-carbon growth in Brazil?</dc:title>
</cp:coreProperties>
</file>